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9BF6-731C-4811-B40C-1C149B177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4FA5-3721-439D-B294-25CFA50F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C031-4939-4C6E-89E2-AC57A0D50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2CAC-201F-40BC-9D51-DA0565DAA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E982-358F-49AF-9C0E-05C2CDF9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B369-606F-43EB-B4F7-30527CB8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94DD-32A4-4609-903A-25A730F3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B90E-50F8-4FA5-A1F8-DB1FC256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0ECA-6910-4B5A-B2DD-0CA9E31D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9A51-D27E-4C05-A51E-54B8F112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6605-2FCC-4F7B-AE78-25EFD914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886C-D056-4BCF-9579-F1B87FB9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1065-10BF-4163-AB2F-76F781E287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6" descr="tawasolbg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tawasol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ا مُحَمَّدٍ يا حَسَنَ بْنَ عَلِي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اَيُّهَا الْمُجْتَبى يَا بْنَ رَسُولِ اللّهِ يا 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پيش خدا شفاعت كن براى ما نزد خدا اى ابا محم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حسن بن على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برگزيده اى فرزند رسول خدا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ا عَبْدِاللّهِ يا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حُسَيْنَ بْنَ عَلِي اَيُّهَا الشَّهيدُ يَا بْنَ رَسُولِ اللّهِ يا حُجَّةَ اللّهِ عَلى خَلْقِهِ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 عبدالله اى حسين بن على اى شهيد (راه حق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بر خل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itle 1"/>
          <p:cNvSpPr/>
          <p:nvPr/>
        </p:nvSpPr>
        <p:spPr>
          <a:xfrm>
            <a:off x="228600" y="0"/>
            <a:ext cx="868680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يا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اَبَا الْحَسَنِ يا عَلِىَّ بْنَ الْحُسَيْنِ يا زَيْنَ الْعابِدينَ يَا بْنَ رَسُولِ اللّهِ يا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حُجَّةَ اللّهِ عَلى خَلْقِهِ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اى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با الحسن اى على بن الحسين اى زيور پرستش كنندگان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ا جَعْفَرٍ يا مُحَمَّدَ بْنَ عَلِي اَيُّهَا الْباقِرُ يَا بْنَ رَسُولِ اللّهِ يا 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جعفر اى محمد بن على اى شكافنده علو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ا عَبْدِ اللّهِ يا جَعْفَرَ بْنَ مُحَمَّدٍ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اَيُّهَا الصّادِقُ يَا بْنَ رَسُولِ اللّهِ يا 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عبدالله اى جعفر بن محمد اى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Arial"/>
              </a:rPr>
              <a:t> (ا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ما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م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صادق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اَللّهُمَّ اِنّى اَسْئَلُكَ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وَاَتَوَجَّهُ اِلَيْكَ بِنَبِيِّكَ نَبِىِّ الرَّحْمَةِ مُحَمَّدٍ صَلَّى اللّهُ عَلَيْهِ وَآل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خدايا از تو مى خواهم و بسويت رو كنم بوسيله پيامبرت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پيامبر رحمت محمد صلى الله عليه وآل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َا الْحَسَنِ يا مُوسَى بْنَ جَعْفَرٍ اَيُّهَا الْكاظِمُ يَا بْنَ رَسُولِ اللّهِ يا حُجَّةَ اللّهِ عَلى خَلْقِهِ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 الحسن اى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موسى بن جعفر اى كاظ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Arial"/>
              </a:rPr>
              <a:t> خل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اَبَا الْحَسَنِ يا عَلِىَّ بْنَ مُوسى اَيُّهَا الرِّضا يَا بْنَ رَسُولِ اللّهِ يا حُجَّةَ اللّهِ عَلى خَلْقِهِ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ابا الحسن اى على بن موسى اى (حضرت) رضا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 خل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ا جَعْفَرٍ يا مُحَمَّدَ بْنَ عَلِي اَيُّهَا التَّقِىُّ الْجَوادُ يَا بْنَ رَسُولِ اللّهِ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 جعفر اى محمد بن على اى حضرت تقى جوا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َا الْحَسَنِ يا عَلِىَّ بْنَ مُحَمَّدٍ اَيُّهَا الْهادِى النَّقِىُّ يَا بْنَ رَسُولِ اللّهِ يا 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 الحسن اى على بن محمد اى حضرت هادى نق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tle 1"/>
          <p:cNvSpPr/>
          <p:nvPr/>
        </p:nvSpPr>
        <p:spPr>
          <a:xfrm>
            <a:off x="152280" y="0"/>
            <a:ext cx="883944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>
                <a:solidFill>
                  <a:srgbClr val="000000"/>
                </a:solidFill>
                <a:latin typeface="Calibri"/>
                <a:cs typeface="Arial"/>
              </a:rPr>
              <a:t>يا اَبا مُحَمَّدٍ يا حَسَنَ بْنَ عَلِي اَيُّهَا</a:t>
            </a:r>
            <a:r>
              <a:rPr b="1" lang="en-US" sz="4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4300" spc="-1" strike="noStrike">
                <a:solidFill>
                  <a:srgbClr val="000000"/>
                </a:solidFill>
                <a:latin typeface="Calibri"/>
                <a:cs typeface="Arial"/>
              </a:rPr>
              <a:t>الزَّكِىُّ الْعَسْكَرِىُّ يَا بْنَ رَسُولِ اللّهِ يا حُجَّةَ اللّهِ عَلى خَلْقِهِ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 محمد اى حسن بن على ا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زكى عسكرى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 خل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َاالْقاسِمِ يا رَسُولَ اللّهِ يا اِمامَ الرَّحْمَةِ يا سَيِّدَنا وَمَوْلينا اِنّا تَوَجَّهْنا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ابا القاسم اى رسول خدا اى پيشواى رحمت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 ما رو آورديم و</a:t>
            </a:r>
            <a:br>
              <a:rPr sz="44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وَصِىَّ الْحَسَنِ وَالْخَلَفَ الْحُجَّةَ اَيُّهَا الْقاَّئِمُ الْمُنْتَظَرُ الْمَهْدِىُّ يَا بْنَ رَسُولِ اللّهِ يا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وصى امام حسن عسكرى و يادگار شايسته و حج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مام قائم منتظر مهدى اى فرزند رسول خدا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حجت خدا بر خل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سادَتى وَمَوالِىَّ اِنّى تَوَجَّهْتُ بِكُمْ اَئِمَّتى وَعُدَّتى لِيَوْمِ فَقْرى وَحاجَتى اِلَى اللّهِ وَتَوَسَّلْتُ بِكُمْ اِلَى اللّه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آقايان من و سرورانم من رو آوردم بوسيله شما پيشوايان و ذخيرگانم در روز ندارى و نيازمندى بدرگاه خدا و توسل جستم بوسيله شما به درگاه خد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وَاسْتَشْفَعْتُ بِكُمْ اِلَى اللّهِ فَاشْفَعُوا لى عِنْدَ اللّهِ وَاسْتَنْقِذُونى مِنْ ذُنُوبى عِنْدَ اللّهِ فَاِنَّكُمْ وَسيلَتى اِلَى اللّهِ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 شفاعت جويى كردم بوسيله شما به درگاه خدا پس شفاعت كنيد براى من در پيشگاه خدا و از او بخواهيد مرا از گناهانم نجات دهد زيرا شماييد وسيله من به درگاه خدا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فَاِنَّكُمْ وَسيلَتى اِلَى اللّهِ وَبِحُبِّكُمْ وَبِقُرْبِكُمْ اَرْجُو نَجاةً مِنَ اللّهِ فَكُونُوا عِنْدَ اللّهِ رَجاَّئى يا سادَتى يا اَوْلِياَّءَ اللّ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 بوسيله دوستى و قرب به شما اميد از خدا دار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پس شما هم مايه اميد من به درگاه خدا باشي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آقايان من اى اولياء خدا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صَلَّى اللّهُ عَلَيْهِمْ اَجْمَعينَ وَلَعَنَ اللّهُ اَعْداَّءَ اللّهِ ظالِميهِمْ مِنَ الاْوَّلين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درود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خدا بر همگى ايشان و خدا ستم كنندگان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به ايشان را كه دشمنان خدا هستند از رحمت خوي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دوركند چه آنهاكه گذشته ان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وَالاْخِرينَ امينَ رَبَّ الْعالَمين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 چه آنها كه پس از اين آيند آمين رب العالمي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وَاسْتَشْفَعْنا وَتَوَسَّلْنا بِكَ اِلَى اللّهِ وَقَدَّمْناكَ بَيْنَ يَدَىْ حاجاتِنا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شفيع گرفتيم و توسل جستيم بوسيله تو به درگاه خدا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 تو را پيش روى حاجتهاى خويش قرار دهيم </a:t>
            </a: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وَجيهاً عِنْدَ اللّهِ اِشْفَعْ لَنا عِنْدَ اللّ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 ما نزد خدا شفاعت كن</a:t>
            </a: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َا الْحَسَنِ يا اَميرَ الْمُؤْمِنينَ يا عَلِىَّ بْنَ اَبيطالِبٍ يا 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الحسن اى اميرمؤ منان اى على بن ابيطالب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يا فاطِمَةَ الزَّهْراَّءُ يا بِنْتَ مُحَمَّدٍ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يا قُرَّةَ عَيْنِ الرَّسُول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اطمه زهرا اى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دختر محمد اى نور چشم پيغمبر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03:08:15Z</dcterms:created>
  <dc:creator>Seyed Mohammad Kazem Motallebi</dc:creator>
  <dc:description/>
  <dc:language>en-US</dc:language>
  <cp:lastModifiedBy>Seyed Mohammad Kazem Motallebi</cp:lastModifiedBy>
  <dcterms:modified xsi:type="dcterms:W3CDTF">2008-02-07T04:40:47Z</dcterms:modified>
  <cp:revision>25</cp:revision>
  <dc:subject/>
  <dc:title>d</dc:title>
</cp:coreProperties>
</file>